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AF9C-8D4E-43FB-B025-BEA48561F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5677-733E-4C74-B842-750547129A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xamples of stresses that may cause psychological pai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ommon stereotypes about “mental illness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7F15-CCDB-4D12-ADFD-32BF5AEE56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ymptoms do you typically associate with Alzheimer diseas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D7C0-6177-4039-A170-FFB914B0B6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munication abilities decline, patients might struggle to find the right words or use meaningless wor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communication problems affect family members’ ability to care for a loved one with this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4841-0C84-4569-A765-CA9C6DB9F9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with Alzheimer disease eventually become bedridden and die of complications associated with the cond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know anyone who has or had Alzheimer disease? What was life like for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D078-BB7A-41CC-AF4E-8D2623C6EC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link may be with chromosome 2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with previous head trauma are at greater risk for developing Alzheimer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F510-06EF-440A-A0D2-EA808D12E8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 positive diagnosis made after death? (When lesions can be viewed at the autopsy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shows loss of neurons and the presence of senile plaques and neurofibrillary tan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338F-07F9-4C17-8382-6F48372B94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s of community services exist to assist caregiv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fluid intake important for patients with Alzheimer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diagnosis and drug therapy may help slow the progression of Alzheimer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D069-E748-4C37-8D7A-B8C6B58D76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oxygen so important to the br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it carried to the br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7DA4-72A5-47BF-8987-F3DD3AB56D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inal stages, the patient may experience a stupor and co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are grad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39AF-A85E-400B-86B8-7B171E6DFA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 carotid arteries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rocedure used to open the narrowed carotid arteri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22FA-8AC7-40D6-A022-C37C849C03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cell death is irrever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gnosis depends on the degree of damage to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B68C-F9BB-4AE6-BBCA-AA60DC7F2F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example of an inherited mental disorde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m of trauma might cause a mental disor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1258-E8C4-40FB-9E31-C4E9B9F1A1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njuries might result in dement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72BA-61B5-40FC-A30D-950D6B8BFC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 head injury, the pati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nable to perform certain cognitive ta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in an inpatient facility as a result of the trau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8CDD-F061-423B-8C76-2D0192A50C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amage be reversed? (Damage to brain cells, which causes dementia, cannot be reversed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apy and training may help patients use the abilities that still re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DDED-17A6-4DCA-9D82-75CD616A3C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set of alcohol abuse can be gradual or prompted by an acute traumatic ev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stitutes “excessive” use of alcoh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cohol a stimulant or a depressan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D091-1BE3-4976-BE6F-1349929648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body affected by chronic ingestion of alcoh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you say to someone who drinks chronically, but denies he or she has a probl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1B07-7E41-4BBF-B920-845B3EE3E3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states, what is the blood alcohol level a legally drunk driver? (.0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drinks would it take to push someone past this threshold? (That depends on the potency of drinks, and the size and weight of the individual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F8B7-D5D3-4DC8-94F2-25F39796E1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A stan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individual therapy invol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pses are 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eople who formerly abuse alcohol must abstain from drinking permanen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890D-7891-4CFB-8A05-807143C236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 go by a variety of names, i.e., ecstasy is XTC, Adam, and “club drug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classifications is most widely ab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1C73-37CC-45AB-985C-3A653DC806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cause a relapse after treatmen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cial factors can be changed to prevent re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C838-C264-4B59-B848-7B35765F04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izophrenia will not improve without trea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A92A-7697-41BF-9813-05A950066A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assifying mental disorders helpful to clinicians who use them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se classifications be detrimental if mis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22EB-EBE8-4AEC-AFE8-A41545BA45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schizophrenia affect individuals? (Schizophrenia is often very disabling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will have difficulty with normal life situations such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ing their educ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a job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ing appropriately in relationsh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2AFD-A3F6-48AD-94AC-30A53DAD37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 symptoms usually appear? (It’s rarely seen in children. Most symptoms begin to manifest in the mid to late 20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20A6-7ADA-420F-8488-6FE1EDF6BE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tient’s speech may become quite bizar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tory, visual, and olfactory (smell) hallucinations are 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9EBB-B92E-43D3-BD5F-200FA3C4D8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ause of schizophrenia? (Unknown; genetic factors are believed to play a substantial part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relatives of schizophrenics are at 10 times greater risk to develop the illn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“projective” psychological t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B01E-97F8-4275-9017-BF8AD18F95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goal of treatment? (To help patient establish a better sense of self through personal, social, and work achievement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gnosis is moderate if patient follows a prescribed treatment p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a dysfunctional family handle a schizophrenic family membe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4163-D42B-4DDE-87D2-DCCE37999D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hyperactivity and depression coexist? (Y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erson may remain manic for days, weeks, or months before cycling into de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BBF7-34FA-423E-BFBD-DE254C383A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risk of mood disorders higher among close relatives of patients? (Yes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otional or physical trauma may precipitate the onset of the dis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riteria for diagn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9DEE-10F4-4A44-AFB8-3BC8413224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is sought most often during depressive episo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respond to someone talking of suici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F2F8-4AA2-4A02-A01A-A0D9A0AA5D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should antidepressants be used with caution? (They may trigger a manic episod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reatment, patients may need to be protected from self-inj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key to successful treatment? (The prognosis is good with treatment and drug therapy, but compliance is key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DFCE-B340-4E6C-A22B-3636FDFE77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major depressive disorders have no history of manic or hypomanic epis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993E-21DC-437F-A356-CC6B5F285E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c disorders may be chro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32DE-3FEC-4A3C-823B-2EF4F13BFD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ong do symptoms take to develop? (over a period of day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k of suicide should be ass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depressive disorder is thought to have a biological basis and a familial patte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5CA6-7339-4B45-A955-9980890527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 of event might trigger a reactive depre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amily history is an important part of the assess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9CF5-E117-4A7A-A604-030C2C32BD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best results, drug therapy should be used with psychothera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hould electroconvulsive therapy be used? (It may help severely incapacitated people with psychotic featur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atient is suicidal, what community resources would help with interventi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3059-9902-429A-B262-8D80DB5B74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group, anxiety disorders represent the largest mental health problem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xiety disorders may lead to more severe disorders, such as depression and alcoh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xiety disorders were previously known as neur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53FD-8638-4166-937E-5294B25C67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a person with generalized anxiety disorder respond to normal stresses such as a traffic j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89F7-4383-4516-9FAD-CFEFE9CF8A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nic attacks always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happening physiologically that may cause symptoms of GA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67D2-8322-41C0-9839-15F59BE057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ld may seem unreal at the time of the panic at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0D35-DDD8-4E81-B834-E0E932A9D5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panic disorder different from generalized anxiety disorder? (The onset is more sudden and of greater severity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ymptoms meet the diagnostic criteria? (Four panic episodes within a month; one or more attacks followed by a persistent fear of another attack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you do if you experienced a panic attack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9591-D18D-472F-872F-0453B37F1F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some people cope with phobic disorders? (They might arrange their lives to avoid confronting the thing they fear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 phobic disorders usually feel powerless to control or prevent their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45C2-C460-4AA7-A687-F588ABC1CA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OCD? (Numerous theories exist, ranging from severe stress to dysfunction in the frontal lobe of the brain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with OCD construct their life events around their dis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8236-7F5E-4F3B-ACFA-CFEF18A6D1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ette disorder is classified as a tic dis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CE97-1D48-43E1-9DAD-BDD3CE6BA2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patients with obsessive thoughts feel? (They might feel as if they’ve lost control of their minds, and they experience great anxiety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lsive behaviors are rituals that are performed to relieve a person’s anx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CF4B-52F2-43BE-B6C0-E89FE4D7CB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exercise help OC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treatment options might work best to calm anxiety?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4476-2939-4C78-A212-34B02B5A28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PTSD may go to great lengths to avoid being reminded of the painful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ong does PTSD last? (Patients might experience this disorder for weeks, months, or even years after the eve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829B-1FC0-4AA5-9A4E-11FBF197B0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, symptoms manifest shortly after the event, but some have a delayed eff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 symptoms stop? (They often disappear spontaneously within 6 month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s of events might cause PTS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6DB1-80B5-4AD1-B2C6-F5EA77EA2C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atural disasters, the greater the threat of death, the more severe the PT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3394-FB11-4737-810E-56F62ACEF7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repetitive dreams or flashbacks seem to indic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think the avoidance of stimuli is conscious or unconscious for most people? Wh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14F7-3113-4480-852E-DA095C4A4E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cognitive-behavioral training work well? (It helps patients sort out distorted thought processes and regain a sense of self-control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nosis is good with therapy and med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1F2F-79AC-4B40-9559-1E721F9480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 of situation might elicit this kind of respon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considered as simply a reflexive defense mechanism designed to protect one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425F-1ED7-492F-BDAC-23D9197247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lete physical examination helps rule out underlying pathologica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45CB-62E8-4AAB-BC57-ED468F3811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ong does the disorder last? (It’s usually resolved in a few weeks, particularly when the stressful situation is no longer threatening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gnosis varies depending on the intensity of the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D8F2-4183-4592-B087-EDFE6678FE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tics typically involve the head, and may include the torso and limb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, nature, and number of tics tend to chang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9E47-8E6F-4EA8-8924-31FD281CA4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re may not be an underlying pathological cause for the pain, it is very real to the pat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3FC4-787C-47C4-9C33-378D30B9C3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real extent of the pain and psychological factors at play can be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69C5-4938-4EFF-AC1E-8EF0AEAC92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respond if you had severe pain, yet exhaustive tests showed no clinical reason to explain the p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A1CD-9885-445F-88FD-252A26DE54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with this condition misread their body aches and pains and interpret them as signs of physical ill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FE3B-14B6-4031-AAC5-2D4D62F342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se patients faking the symptoms? (Not really; they really do feel the condition or disease they fear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a diagnosis of hypochondriasis so difficult? ( Because these people often change physicians when their suspected diagnosis is not confirm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7245-33A1-4691-B58B-CAB13D0AF2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think group therapy would be helpful to a person with hypochondrias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2D11-3D21-460A-8DD1-1053E2D4AC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a person simulate symptoms of illness? (They believe they have no other way to get attention except to feign symptom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eople often have extensive knowledge of medical terminology and hospital rout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AF65-1D50-4E0A-9B68-265F65F4F8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both Munchausen conditions have in common? (Patients tend to draw attention to themselves by feigning sickness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ndividuals are confronted with the facts, they often seek help at another fac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ome professionals believe this condition is untrea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01AA-FF84-4F02-BCE3-04378A7F7D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ross-gender identification is pres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CB5B-A4DB-446A-A844-A09123E17A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use for these preferences is uncert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respond if your child struggled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1381-C0B3-4B14-B46B-A6960FEB2D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when is the onset of Tourette disorder? (As early as 2 years of age, but it must be before age 18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ndrome is lifelong in d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9268-2CA0-47C5-9F5D-D71544A2B0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ults will seek to change themselves physically through hormonal or surgical inter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se individuals experience social isolation and low self-este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47DE-E86D-4DF3-B5A5-CD34A74769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benefits might a support group have for these people and their famili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AD73-450E-4375-8F66-0F49BD55BC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leepwalk generally have no memory of the event and may awaken while roam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 nightmares occur? (They tend to occur late at nigh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8859-D71C-48CB-BC49-CCBB845B59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king the diagnosis, a thorough history should include any drug consump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80E2-4F3F-4BE4-B890-7BDA93C235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eepwalking person should not be interrupted or awak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children outgrow these conditions? (Yes, usually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823E-D961-4AAD-9ED2-FF0D553302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es narcolepsy strik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what age is the usual onset of narcolepsy? (Usually before age 25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 of sleep paralysis lasts about one minute, during which time the person is unable to m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E727-05BB-46BF-938F-19C3CFFF19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story of repeated episodes suggests narcoleps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s of jobs should be avoided by a person with this disor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927F-627D-48A0-ABFF-96E71F9A2C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 signs of a personality usually appear? (In adolescence. These disorders should not be diagnosed earlier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4546-6B51-4BCF-AC31-5B100E4487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vary by personality disord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personality disorders often difficult to treat? (They are so deeply ingrained in the patie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4E09-05B5-487A-94D2-3EA70F27D4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know anyone who fits the profile of one or more of these disord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7CB7-B559-4FC1-BB8A-F2D467A01C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 cure for Tourette? (No, but some patients experience a lessening of symptoms as they matur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your reaction be to someone with Touret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0EBF-F73E-4C67-8AD2-2B08F6349F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eople can be very manipulative and are known to create conflict so rejection occurs? (Borderl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eople may be inappropriately seductive? (Histrio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eople may react with rage or humiliation when criticized? (Narcissis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6040-443F-4F3A-A89B-72A8CA3D21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eople are preoccupied with being judged or criticized by peers? (avoid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eople want others to make decisions for them? (depende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eople can be so preoccupied with details of a task that they never finish one? 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(obsess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EEC8-B1DC-4DDB-9DD2-058038F7B2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auses of personality disorders? (They have been linked to biological, social, and psychodynamic origin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a trusting relationship between therapist and patient so crucial? (Many with personality disorders mistrust and are resistant to therapy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with personality disorders do not respond to drug thera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B8EE-EB51-4646-856F-BE794C62A6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lood flow may also be caused by toxins, metabolic conditions tumors, or other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0" y="63849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lsevier items and derived items © 2009 by Saunders, an imprint of Elsevier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al wellnes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capacity to cope and adjust to the ongoing stresses of everyday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al illnes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fficulty coping with ongoing, everyday stresses, which results in psychological pain and possibly affects physical heal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ntal Wellness and Mental Illnes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zheimer Disea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zheimer disea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progressive degenerative disease of the brain that causes a gradual loss of mental and physical functio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most common cause of dementia and occurs more frequently in adults over 65 years of 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zheimer Disease: Sympto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sta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short-term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bility to concent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irment of reas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tle changes in pers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progression contin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skills dec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zheimer Disease: Symptom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 sta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increasingly dependent for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 to outside stimulus decr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emotionally detac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rest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ffers sleep disturb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disorient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hostile/comb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zheimer Disease: Cause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use is not known, but it is suspected to be age-related and have a genetic l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ries includ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chemical changes in brain grow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immune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ction with a slow-acting 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vessel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ciency of neurochemical factors in the b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zheimer Disease: Diagno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tic criteria include evidence of memory and cognitive disturba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disease progresses, neurological examination reveals sensory and motor defic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ater stages, diagnostic studies include brain scans, which can detect atroph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zheimer Disease: Treatment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ure is kn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 is geared toward management of symptoms and inclu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therapy to help control cognitive decline, anxiety, depression, and delu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management of fluid intake, adequate nutrition, and personal hygie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ction against inju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otional support for patient and caregiver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scular Dementi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scular Dement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reduction in blood flow to the brain from narrowed arteries can result in reduced oxygen and nourishment to the brain cells and cause a general loss of intellectual abil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scular Dementia: Sympto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clude disturbances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th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a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ori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lessn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ychotic tendencies as condition prog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scular Dementia: Cau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herosclerotic plaque grows in the carotid and cerebral arteries, reducing blood flow to br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tarves the brain for needed oxy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cells die, impairing cognitive fun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scular Dementia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crease blood supply to the brain by mean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therapy (low-dose aspirin, Plavi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ical intervention to remove plaque from carotid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al disorders could be caus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d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enital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tox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ntal Wellness and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ntal Illnes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entia caused by head traum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traumatic insult to the head may reduce blood flow to the brain and result in dement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of head injuries that could reduce blood flow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and closed head inju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atomas (localized swelling filled with blood resulting from a break in a blood vess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ull frac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mentia Caused by Head Traum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and neurological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ing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ull radiographic fil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T scan of b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RI scan of brain and cerebral vess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mentia Caused by Head Trauma: Diagnos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intracranial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ir vessel da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y and training to retain the remaining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mentia Caused by Head Trauma: Treat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cohol abu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disorder causing physical and psychological dependence through daily and excessive use of alcoholic bever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use is often associated with anxiety, depression, insomnia, impotence, and behavior disord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bstance-Related Disorders: Alcohol Abu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 (family disruption, violence, accident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t inf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strointestinal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iz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cohol withdrawal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longed use may cau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rhosis of l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creat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pheral neuropat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sk of cancer (esophagus, stomach, and part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 trac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cohol Abuse: Sympto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cohol Abuse: Diagno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ing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examination (includes medical histo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test shows high level of an enzyme called gamma-glutamyltransferase or GG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cohol Abuse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46484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ox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therapy and/or 12-step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 (A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abuse causes violent nausea and vomiting when alcohol is consu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ther Drugs of Abu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types of drugs can modify mood or behavior and possibly harm the body when ab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in classifications of drug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mulants (amphetamines, ecstasy, coca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iates (heroi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llucinogens (LS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atile substance (inhalants, vap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abanoid (marijuana, has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roidal (steroi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bac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cription dru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ther Drugs of Abu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treatment guideli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meet individual’s needs and be tailored to drug of ab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should have a medical, psychological, and social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havior therapy and adequate support crucial for recovery and abstin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hizophreni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hizophren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y of a group of psychotic disorders usually characterized by withdrawal from reality, illogical patterns of thinking, delusions, and hallucinations, and accompanied in varying degrees by other emotional, behavioral, or intellectual disturbanc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al disorders are loosely classified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adaptive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b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x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ntal Wellness and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ntal Illnes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hizophrenia: Sympto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ied in two way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itive manifestation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excess or distortion of normal functio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gative manifestation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loss of normal func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hizophrenia: Symptom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4503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organized spe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tatonic behavior (bizarre posturing — rig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63640" y="1464840"/>
            <a:ext cx="309420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at affect (no emotional express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ability to speak (alog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ability to make cho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hizophrenia: Symptom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st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drawal or iso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heveled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s of interest school or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xiety/f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pha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d social and occupational dys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hizophrenia: Diagno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logical tests (MMPI and some projective te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scans (PET, FMR, ME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hizophrenia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phas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psychotic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-term multidimensional treatment combi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ive psycho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y invol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olar disord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major affective disorder with abnormally intense mood swings from a hyperactive, or manic, state to a depressive syndr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od Disorders: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polar Disord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ipolar Disorder: Sympto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manic episo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changes of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al sle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ssive amount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lsive cho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usions or auditory hallucination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ipolar Disorder: Symptom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depressive episo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d or indifferent m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 thoughts and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interest in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eep disturb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lings of g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atened or attempted suici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ipolar Disorder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hium carbonate is the drug of choice during an acute ph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kote and Tegretol are add-on drugs that may help stabilize manic episo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depress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 to encourage personal responsibility, set goals, and establish lim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jor Depressive Disord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or depressive disord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mood disorder characterized by one or more serious depressive episodes that include deep and persistent sadness, despair, and hopeless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ic Disord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c disord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, recurrent motor movement (facial grimacing, coughing, eye blinking) or vocalizations (repetition of one’s own words, using words out of context or in a socially unacceptable manne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ty or heavy feeling in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gue sense of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bl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self-e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eep disturbance (insomnia or hypersomn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concentration and interest in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withdraw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jor Depressiv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order: Sympto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l and psychological assessments are nee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important to distinguish between reactive depression, which results from a difficult or stressful life experience, and MD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ssive mood must be prominent and persistent for a period of at least two weeks with at least four of the previously mentioned symptom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jor Depressive Disorder: Diagnos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depressa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convulsive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support and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jor Depressiv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order: Treat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xiety Disord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6484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xiety disor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xiety moves from the realm of “normal” to “abnormal” when it persists and prevents the person from leading a normal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classifications of anxiety disord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ized anxiety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ic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bic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ssive-compulsive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neralized Anxiety Disord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ed anxiety disord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nstant state of anxiety abo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th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situation-spec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s making decisions or worries about ones that have been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ic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ologic symptoms might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blood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tained muscular ten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bility to sleep; nightmares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neralized Anxiety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order: Sympto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nic Disord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nic disord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nxiety begins suddenly and unexpectedly, reaching a peak within 10 minu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ttack is often accompanied by a sense of impending doom, “going crazy,” losing control, or dy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nic Disorder: Sympto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 pou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pu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m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ness of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st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u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zzin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t fla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obic Disord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obic disord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rked by excessive, persistent, and irrational fear and the avoidance of phobic stimul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urce of anxiety can be an object or situation, but it poses no actual dang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sessive-compulsive disord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rked by obsessions (persistent intrusions of unwanted thoughts) and compulsions (uncontrollable urges to carry out certain ac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features usually occur together, but not alw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sessive-Compulsiv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order (OCD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urette Disord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urette disord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multiple motor tics coupled with one or more vocal tics, which can appear simultaneously or at different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known as Gilles de la Tourette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obsess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ming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ici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ing immoral sexual 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compuls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ssive hand wa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edly checking door 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sessive-Compulsive Disorder: Sympto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xation thera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depressants (SSR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ization in severe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sessive-Compulsive Disorder: Treat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TSD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delayed response to an external traumatic event that produces symptoms of extreme str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TSD differs from other anxiety disorders because the cause of the stress is an external event of an overwhelmingly painful n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sttraumatic Stres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order (PTS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TSD: Sympto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ful recoll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ghtm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om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i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TSD: Cau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TSD caused by human actions (rape, acts of war, abuse) tends to precipitate more severe reactions than PTSD caused by natural disasters (hurricanes, floods, earthquake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TSD: Diagno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essing recollections of the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urrent dreams and flashb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ance of stimuli associated with the traumatic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arousal (rapid heartbeat, panic) when thinking about or exposed to stimuli related to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TSD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464840"/>
            <a:ext cx="770112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ers on restoring individual’s sen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seling (helps victims accept the overwhelming memories instead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th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therapy (antianxiety, antidepressants, or medications to aid slee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version Disord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rsion disord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anxiety is too difficult to face, it may be unconsciously converted to a physical or somatic symptom to allow the person to escape or avoid the sit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precipitated by a highly stressful sit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version Disorder: Sympto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cits in voluntary motor functions (paralysis, tremor, t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y symptoms (oversensitivity to pain, touch, or soun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ch disturbances (loss of voi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symptoms (headaches, difficulty swallowing or breathing, choking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version Disorder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urse of the disorder is usually short, and recurrence is comm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urette Disorder: Sympto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al ti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u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or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ce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in Disord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in disord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nifested by pain that causes significant distress and physical and social impairment to such a degree that it takes control of the person’s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in Disorder: Sympto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e and lasting pain (can be associated with musculoskeletal disorders, neuropathies, and malignanc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 not intentionally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in Disorder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lying clinical conditions identified and add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xation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rcotics (if pain relief cannot be achieved any other w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ypochondria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pochondria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ar of having a serious disease, even though medical causes cannot be found to substantiate the f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ypochondriasis: Symptom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6484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occupation with il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normal fear of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often described in vague te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last more than 6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ypochondriasis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s person live with symptoms or reframe them in such a way that extreme conclusions are not dra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unchausen Syndrom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nchausen syndrom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dered a factitious disorder; occurs when people simulate symptoms of illness, knowing they are not ill and they seek medical attention as a way to draw attention to themsel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ngering, or the feigning of symptoms for financial or personal gain, is also a factitious disor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nchausen syndrome by prox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parent projects symptoms to the child (usually a preschooler), which stimulates the illness in the child and causes the child to present for trea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rent denies any knowledge of the actual cause and relates the symptoms to be GI, genitourinary, or something el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nchausen Syndrome by Prox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nder Identity Disord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 identity disord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ditions in which individuals feel a powerful connection with the opposite sex and want to be the opposite se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s believe their current gender roles are inappropi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occupation with feminine activities (dressing in female clothes, playing with dol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ance of competitive spor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remark they don’t want male genitalia, but rather female genit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nder Identity Disorders: Sympto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urette Disorder: Diagno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motor and vocal tics are present, although not necessarily at the same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cs occur several times a day over a period of at least 3 mon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atient has significant impairment in functioning at work or in social situ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ndition is not a result of substance abuse or another medical cond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614240"/>
            <a:ext cx="7701120" cy="40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ay a dislike for feminine attire and prefer boy-type clothing and short 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fer boys as playm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age in typically, male sports and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remark they will eventually grow male genitalia and do not want brea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nder Identity Disorders: Symptom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153936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 (to help individuals either feel more comfortable in their assigned sex or accept the feelings they ha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monal or surgical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nder Identity Disorders: Treat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asomnia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somnia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group of sleep disorders that include sleepwalking, night terrors, and nightm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somnias usually occur in children early in the n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asomnias: Cause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e genetic 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al, psychological, and organic fact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tumors or fe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hium and certain other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asomnias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on from injury is primary for the sleepwalking per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izing exposure to terror (especially from movies, television, etc.) reduces occurrence of night terr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ults can be treated with sleep med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rcoleps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rcoleps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hronic neurological condition in which a person has an irresistible tendency to sleep during the daytime for a few seconds to half an h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usually precipitated by sedentary, monotonous a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rcolepsy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eutic n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ing a normal night sleep patt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therapy (daytime stimulant to remain awak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sonality Disord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ity disord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pattern of behavior that deviates from society’s norms and is typically rooted in a person’s thoughts about him-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her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produce chronic, ingrained, and maladaptive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ordered patterns of relating, thinking, and perce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social and occupational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ght appear arrogant, shy, or bla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sonality Disorders: Sympto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sonality Disorder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uster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noid personality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trust in others; suspicious others intend to hurt or explo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izoid personality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cking emotional expression of pleasure or pain; seem indifferent and socially detach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izotypal personality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ilar to schizoid socially, but can have paranoid tendencies; superstitious, believing others have magical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urette Disorder: Treat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atients improve with medication (Haldol, clonidine) to manage symptoms and/or produce cal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ster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social personality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regard others; violates others’ rights, aggressive, no remo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line personality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stable relationships and self-image, fears rejection; prone to be manipulative and to verbal outbu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rionic personality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ly dramatic; needs to be center of attention; appears immature and dependent and seek approval from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rcissistic personality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s an absorption with self and lacks empathy for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sonality Disorder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sonality Disorder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ster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ant personality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s social situations for fear of criticism or disapproval,views self as inept or infer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 personality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tern of excessive reliance on others, feels reluctant to disagree for fear of losing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ssive personality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reme concern with orderliness and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s on symptoms of particular disorder, but usually inclu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ycho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therapy (anxiety, depress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 very poor overall due to degree that traits are ingrained into individual’s way of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sonality Disorders: Treat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menti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ent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progressive deterioration of mental faculties that causes cognitive dec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eversible brain damage may be the result of compromised blood flow to the brain caused by plaque in the arteries (atherosclerosis), blood clot (thombus), or trau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20:32:14Z</dcterms:created>
  <dc:creator>Gary Gilles</dc:creator>
  <dc:description/>
  <dc:language>en-US</dc:language>
  <cp:lastModifiedBy>Student</cp:lastModifiedBy>
  <dcterms:modified xsi:type="dcterms:W3CDTF">2011-06-16T22:05:27Z</dcterms:modified>
  <cp:revision>120</cp:revision>
  <dc:subject/>
  <dc:title>Slide 1</dc:title>
</cp:coreProperties>
</file>